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222-CC1A-4D78-A5FB-3F5D5696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2B6-7FE3-4604-ADC4-9BEC1B8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792-53EA-4921-ACF6-A76442A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40080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5856920"/>
            <a:ext cx="264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DD8-8234-457E-85C1-C6C25913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418-15D0-4C9B-901D-37310D4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C86-9374-41EF-B74D-80DAED6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915-C741-4746-B0D7-7016F805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552-544B-4876-8E6F-985C70B9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8720"/>
            <a:ext cx="82296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957-FC10-45A6-923C-5E7F9D8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8D9-ED4C-4E7A-856E-3AED2C7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585692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2CE-BF3B-4A45-85B7-344F59E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400800"/>
            <a:ext cx="40158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5856920"/>
            <a:ext cx="8229600" cy="86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605-7BF2-4AD1-AFC9-C884838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400800"/>
            <a:ext cx="8229600" cy="181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5425000"/>
            <a:ext cx="28958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5425000"/>
            <a:ext cx="2133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244FA-6231-4A91-981D-260922C53D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arallelogram 109"/>
          <p:cNvSpPr/>
          <p:nvPr/>
        </p:nvSpPr>
        <p:spPr>
          <a:xfrm flipV="1" rot="5400000">
            <a:off x="790560" y="-790560"/>
            <a:ext cx="7562880" cy="9144000"/>
          </a:xfrm>
          <a:prstGeom prst="parallelogram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arallelogram 111"/>
          <p:cNvSpPr/>
          <p:nvPr/>
        </p:nvSpPr>
        <p:spPr>
          <a:xfrm rot="5400000">
            <a:off x="1925640" y="2387160"/>
            <a:ext cx="5292720" cy="9144000"/>
          </a:xfrm>
          <a:prstGeom prst="parallelogram">
            <a:avLst>
              <a:gd name="adj" fmla="val 25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2"/>
          <p:cNvSpPr/>
          <p:nvPr/>
        </p:nvSpPr>
        <p:spPr>
          <a:xfrm>
            <a:off x="0" y="56055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Planejament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98"/>
          <p:cNvSpPr/>
          <p:nvPr/>
        </p:nvSpPr>
        <p:spPr>
          <a:xfrm>
            <a:off x="3962520" y="346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tilização de AVA possibilita  maior interação na relação aluno/profes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9"/>
          <p:cNvSpPr/>
          <p:nvPr/>
        </p:nvSpPr>
        <p:spPr>
          <a:xfrm>
            <a:off x="1440000" y="0"/>
            <a:ext cx="770400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200"/>
          <p:cNvSpPr/>
          <p:nvPr/>
        </p:nvSpPr>
        <p:spPr>
          <a:xfrm>
            <a:off x="3125880" y="1477800"/>
            <a:ext cx="1627200" cy="115920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ane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201"/>
          <p:cNvSpPr/>
          <p:nvPr/>
        </p:nvSpPr>
        <p:spPr>
          <a:xfrm>
            <a:off x="5162400" y="2071800"/>
            <a:ext cx="1704960" cy="14619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ecu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202"/>
          <p:cNvSpPr/>
          <p:nvPr/>
        </p:nvSpPr>
        <p:spPr>
          <a:xfrm>
            <a:off x="7170840" y="1582560"/>
            <a:ext cx="1744560" cy="13892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val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03"/>
          <p:cNvSpPr/>
          <p:nvPr/>
        </p:nvSpPr>
        <p:spPr>
          <a:xfrm>
            <a:off x="3987720" y="863640"/>
            <a:ext cx="109440" cy="718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04"/>
          <p:cNvSpPr/>
          <p:nvPr/>
        </p:nvSpPr>
        <p:spPr>
          <a:xfrm>
            <a:off x="5918040" y="896760"/>
            <a:ext cx="109800" cy="1229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05"/>
          <p:cNvSpPr/>
          <p:nvPr/>
        </p:nvSpPr>
        <p:spPr>
          <a:xfrm>
            <a:off x="7958160" y="985680"/>
            <a:ext cx="111240" cy="771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7"/>
          <p:cNvSpPr/>
          <p:nvPr/>
        </p:nvSpPr>
        <p:spPr>
          <a:xfrm>
            <a:off x="1422360" y="2286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VA-Ambiente Virtual de Aprendizag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08"/>
          <p:cNvSpPr/>
          <p:nvPr/>
        </p:nvSpPr>
        <p:spPr>
          <a:xfrm>
            <a:off x="1096920" y="2260440"/>
            <a:ext cx="17305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12"/>
          <p:cNvSpPr/>
          <p:nvPr/>
        </p:nvSpPr>
        <p:spPr>
          <a:xfrm>
            <a:off x="1492200" y="2484360"/>
            <a:ext cx="97812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9"/>
          <p:cNvGrpSpPr/>
          <p:nvPr/>
        </p:nvGrpSpPr>
        <p:grpSpPr>
          <a:xfrm>
            <a:off x="160200" y="10818720"/>
            <a:ext cx="9144000" cy="16019640"/>
            <a:chOff x="160200" y="10818720"/>
            <a:chExt cx="9144000" cy="16019640"/>
          </a:xfrm>
        </p:grpSpPr>
        <p:sp>
          <p:nvSpPr>
            <p:cNvPr id="56" name="Parallelogram 220"/>
            <p:cNvSpPr/>
            <p:nvPr/>
          </p:nvSpPr>
          <p:spPr>
            <a:xfrm rot="5400000">
              <a:off x="-3277440" y="14256360"/>
              <a:ext cx="16019640" cy="9144000"/>
            </a:xfrm>
            <a:prstGeom prst="parallelogram">
              <a:avLst>
                <a:gd name="adj" fmla="val 870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223"/>
            <p:cNvSpPr/>
            <p:nvPr/>
          </p:nvSpPr>
          <p:spPr>
            <a:xfrm>
              <a:off x="214200" y="15817680"/>
              <a:ext cx="1906200" cy="100800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ownlo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val 224"/>
            <p:cNvSpPr/>
            <p:nvPr/>
          </p:nvSpPr>
          <p:spPr>
            <a:xfrm>
              <a:off x="3340800" y="16389360"/>
              <a:ext cx="2690640" cy="1233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cesso e produção de materiais didá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val 225"/>
            <p:cNvSpPr/>
            <p:nvPr/>
          </p:nvSpPr>
          <p:spPr>
            <a:xfrm>
              <a:off x="6486480" y="15932160"/>
              <a:ext cx="2415960" cy="10666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unicação/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teraçã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26"/>
            <p:cNvSpPr/>
            <p:nvPr/>
          </p:nvSpPr>
          <p:spPr>
            <a:xfrm>
              <a:off x="1130040" y="15162120"/>
              <a:ext cx="109440" cy="71892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27"/>
            <p:cNvSpPr/>
            <p:nvPr/>
          </p:nvSpPr>
          <p:spPr>
            <a:xfrm>
              <a:off x="4576680" y="15162120"/>
              <a:ext cx="109440" cy="1226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28"/>
            <p:cNvSpPr/>
            <p:nvPr/>
          </p:nvSpPr>
          <p:spPr>
            <a:xfrm>
              <a:off x="7602480" y="15162120"/>
              <a:ext cx="109440" cy="7696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229"/>
            <p:cNvSpPr/>
            <p:nvPr/>
          </p:nvSpPr>
          <p:spPr>
            <a:xfrm>
              <a:off x="761760" y="17792640"/>
              <a:ext cx="7323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 aluno possui acesso a materias para aprofundar seus estudos ou até mesmo realizar um estudo prévio para que seja ampliado esse conhecimento na sala de aula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interação com o professor e com os colegas pode ser feita em tempo real e também em tempo diferent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ound Same Side Corner Rectangle 231"/>
            <p:cNvSpPr/>
            <p:nvPr/>
          </p:nvSpPr>
          <p:spPr>
            <a:xfrm>
              <a:off x="761760" y="20826360"/>
              <a:ext cx="7940880" cy="623880"/>
            </a:xfrm>
            <a:prstGeom prst="pie">
              <a:avLst/>
            </a:prstGeom>
            <a:solidFill>
              <a:srgbClr val="7f7f7f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Na EE José Alves Ribeiro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236"/>
            <p:cNvSpPr/>
            <p:nvPr/>
          </p:nvSpPr>
          <p:spPr>
            <a:xfrm>
              <a:off x="4122720" y="20894760"/>
              <a:ext cx="193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86"/>
            <p:cNvSpPr/>
            <p:nvPr/>
          </p:nvSpPr>
          <p:spPr>
            <a:xfrm>
              <a:off x="2120760" y="23992200"/>
              <a:ext cx="571320" cy="876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81"/>
            <p:cNvSpPr/>
            <p:nvPr/>
          </p:nvSpPr>
          <p:spPr>
            <a:xfrm>
              <a:off x="2952720" y="23664960"/>
              <a:ext cx="571320" cy="9363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76"/>
            <p:cNvSpPr/>
            <p:nvPr/>
          </p:nvSpPr>
          <p:spPr>
            <a:xfrm>
              <a:off x="3806640" y="23804640"/>
              <a:ext cx="571320" cy="10382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71"/>
            <p:cNvSpPr/>
            <p:nvPr/>
          </p:nvSpPr>
          <p:spPr>
            <a:xfrm>
              <a:off x="4686120" y="23515920"/>
              <a:ext cx="571320" cy="12445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66"/>
            <p:cNvSpPr/>
            <p:nvPr/>
          </p:nvSpPr>
          <p:spPr>
            <a:xfrm>
              <a:off x="5603760" y="23688720"/>
              <a:ext cx="571320" cy="9126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261"/>
            <p:cNvSpPr/>
            <p:nvPr/>
          </p:nvSpPr>
          <p:spPr>
            <a:xfrm>
              <a:off x="6486480" y="22960080"/>
              <a:ext cx="571320" cy="21114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256"/>
            <p:cNvSpPr/>
            <p:nvPr/>
          </p:nvSpPr>
          <p:spPr>
            <a:xfrm>
              <a:off x="7331040" y="23539680"/>
              <a:ext cx="571320" cy="73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Parallelogram 294"/>
          <p:cNvSpPr/>
          <p:nvPr/>
        </p:nvSpPr>
        <p:spPr>
          <a:xfrm flipH="1" rot="16200000">
            <a:off x="562680" y="6595200"/>
            <a:ext cx="7983360" cy="9144000"/>
          </a:xfrm>
          <a:prstGeom prst="parallelogram">
            <a:avLst>
              <a:gd name="adj" fmla="val -23419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95"/>
          <p:cNvSpPr/>
          <p:nvPr/>
        </p:nvSpPr>
        <p:spPr>
          <a:xfrm>
            <a:off x="0" y="8128080"/>
            <a:ext cx="7704000" cy="10666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O planejamento é o fio-condutor , pois o estudante é o centro do processo, obrigando a um planejamento detalhado das etapas. O  AVA registra todas as participações, interações, realização de atividades propostas, apresentação de conteúdos e outras funcionalida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97"/>
          <p:cNvSpPr/>
          <p:nvPr/>
        </p:nvSpPr>
        <p:spPr>
          <a:xfrm>
            <a:off x="500040" y="11231640"/>
            <a:ext cx="7321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ssim como nas aulas presenciais existe o espaço da sala de aula para o encontro entre alunos e professores, nos ambientes virtuais de aprendizagem esses encontros acontecem de maneira síncrona (ao mesmo tempo) ou assíncrona (em tempos diferent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98"/>
          <p:cNvSpPr/>
          <p:nvPr/>
        </p:nvSpPr>
        <p:spPr>
          <a:xfrm>
            <a:off x="693720" y="9779040"/>
            <a:ext cx="1947960" cy="13366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íncr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299"/>
          <p:cNvSpPr/>
          <p:nvPr/>
        </p:nvSpPr>
        <p:spPr>
          <a:xfrm>
            <a:off x="4208400" y="9952200"/>
            <a:ext cx="2351160" cy="1163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síncr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01"/>
          <p:cNvSpPr/>
          <p:nvPr/>
        </p:nvSpPr>
        <p:spPr>
          <a:xfrm>
            <a:off x="1595520" y="9194760"/>
            <a:ext cx="110880" cy="720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02"/>
          <p:cNvSpPr/>
          <p:nvPr/>
        </p:nvSpPr>
        <p:spPr>
          <a:xfrm>
            <a:off x="5332320" y="9029880"/>
            <a:ext cx="11124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04"/>
          <p:cNvSpPr/>
          <p:nvPr/>
        </p:nvSpPr>
        <p:spPr>
          <a:xfrm>
            <a:off x="-17640" y="14095440"/>
            <a:ext cx="9161640" cy="1066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05"/>
          <p:cNvSpPr/>
          <p:nvPr/>
        </p:nvSpPr>
        <p:spPr>
          <a:xfrm>
            <a:off x="299880" y="14398560"/>
            <a:ext cx="73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Impact"/>
              </a:rPr>
              <a:t>Vantagens (sala invertida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846520" y="134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09"/>
          <p:cNvSpPr/>
          <p:nvPr/>
        </p:nvSpPr>
        <p:spPr>
          <a:xfrm>
            <a:off x="160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11"/>
          <p:cNvSpPr/>
          <p:nvPr/>
        </p:nvSpPr>
        <p:spPr>
          <a:xfrm>
            <a:off x="160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3" descr="Resultado de imagem para moodle"/>
          <p:cNvPicPr/>
          <p:nvPr/>
        </p:nvPicPr>
        <p:blipFill>
          <a:blip r:embed="rId1"/>
          <a:stretch/>
        </p:blipFill>
        <p:spPr>
          <a:xfrm>
            <a:off x="1101600" y="2260440"/>
            <a:ext cx="1744920" cy="1600200"/>
          </a:xfrm>
          <a:prstGeom prst="rect">
            <a:avLst/>
          </a:prstGeom>
          <a:ln w="0">
            <a:noFill/>
          </a:ln>
        </p:spPr>
      </p:pic>
      <p:sp>
        <p:nvSpPr>
          <p:cNvPr id="86" name="Retângulo 115"/>
          <p:cNvSpPr/>
          <p:nvPr/>
        </p:nvSpPr>
        <p:spPr>
          <a:xfrm>
            <a:off x="1392120" y="21867840"/>
            <a:ext cx="5761080" cy="60624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riar o ambiente da tu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ta para baixo 116"/>
          <p:cNvSpPr/>
          <p:nvPr/>
        </p:nvSpPr>
        <p:spPr>
          <a:xfrm>
            <a:off x="1549440" y="22474080"/>
            <a:ext cx="314280" cy="486000"/>
          </a:xfrm>
          <a:prstGeom prst="down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17"/>
          <p:cNvSpPr/>
          <p:nvPr/>
        </p:nvSpPr>
        <p:spPr>
          <a:xfrm>
            <a:off x="376200" y="22974480"/>
            <a:ext cx="2660760" cy="11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isponibilizar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- Textos complement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- Dicas de filmes/víd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ta para baixo 118"/>
          <p:cNvSpPr/>
          <p:nvPr/>
        </p:nvSpPr>
        <p:spPr>
          <a:xfrm>
            <a:off x="1492200" y="24145920"/>
            <a:ext cx="314280" cy="488880"/>
          </a:xfrm>
          <a:prstGeom prst="downArrow">
            <a:avLst>
              <a:gd name="adj1" fmla="val 50000"/>
              <a:gd name="adj2" fmla="val 5008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119"/>
          <p:cNvSpPr/>
          <p:nvPr/>
        </p:nvSpPr>
        <p:spPr>
          <a:xfrm>
            <a:off x="598320" y="24634800"/>
            <a:ext cx="2354400" cy="90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pliar o tempo hora/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ta para baixo 120"/>
          <p:cNvSpPr/>
          <p:nvPr/>
        </p:nvSpPr>
        <p:spPr>
          <a:xfrm>
            <a:off x="4122720" y="22474080"/>
            <a:ext cx="314280" cy="76680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de cantos arredondados 121"/>
          <p:cNvSpPr/>
          <p:nvPr/>
        </p:nvSpPr>
        <p:spPr>
          <a:xfrm>
            <a:off x="5918040" y="22974480"/>
            <a:ext cx="1766880" cy="90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- Criar fóruns de discus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ta para baixo 122"/>
          <p:cNvSpPr/>
          <p:nvPr/>
        </p:nvSpPr>
        <p:spPr>
          <a:xfrm>
            <a:off x="4194000" y="24145920"/>
            <a:ext cx="314640" cy="1258920"/>
          </a:xfrm>
          <a:prstGeom prst="downArrow">
            <a:avLst>
              <a:gd name="adj1" fmla="val 50000"/>
              <a:gd name="adj2" fmla="val 4995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de cantos arredondados 123"/>
          <p:cNvSpPr/>
          <p:nvPr/>
        </p:nvSpPr>
        <p:spPr>
          <a:xfrm>
            <a:off x="5686560" y="24412680"/>
            <a:ext cx="2398680" cy="10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- Instigar a autoria e potencializar o senso crític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ta para baixo 125"/>
          <p:cNvSpPr/>
          <p:nvPr/>
        </p:nvSpPr>
        <p:spPr>
          <a:xfrm>
            <a:off x="6553080" y="22474080"/>
            <a:ext cx="314280" cy="500400"/>
          </a:xfrm>
          <a:prstGeom prst="down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de cantos arredondados 126"/>
          <p:cNvSpPr/>
          <p:nvPr/>
        </p:nvSpPr>
        <p:spPr>
          <a:xfrm>
            <a:off x="3243240" y="23240880"/>
            <a:ext cx="2530440" cy="90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isponibilizar um horário para a comunicação síncr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ta para baixo 127"/>
          <p:cNvSpPr/>
          <p:nvPr/>
        </p:nvSpPr>
        <p:spPr>
          <a:xfrm>
            <a:off x="6559560" y="23879160"/>
            <a:ext cx="312840" cy="533520"/>
          </a:xfrm>
          <a:prstGeom prst="down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128"/>
          <p:cNvSpPr/>
          <p:nvPr/>
        </p:nvSpPr>
        <p:spPr>
          <a:xfrm>
            <a:off x="3197160" y="25404840"/>
            <a:ext cx="240660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umentar a interação professor/alu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Potencializar a aprendizag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00Z</dcterms:created>
  <dc:creator>Demond Wong</dc:creator>
  <dc:description/>
  <dc:language>en-US</dc:language>
  <cp:lastModifiedBy>PARTICULAR</cp:lastModifiedBy>
  <cp:lastPrinted>2015-02-25T21:45:26Z</cp:lastPrinted>
  <dcterms:modified xsi:type="dcterms:W3CDTF">2016-07-01T22:04:10Z</dcterms:modified>
  <cp:revision>264</cp:revision>
  <dc:subject/>
  <dc:title>PowerPoint Presentation</dc:title>
</cp:coreProperties>
</file>